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5B5D2-A8E1-4B7F-BC24-79D64929D6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 produced 120 mL of urine a minute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your bladder’s stretch receptors signal to your brain when there is 200mL of urine;  can hold up to 600-8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motic gradient created by glucose, amino acids moves water back to bloo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H acts on the upper part of the distal tubule and collecting duct, and makes them more permeable to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ximal tubule reabsorbs 85% of water, and ADH regulates how much of the 15% is reabsorb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nin is released by specialized cells in the juxtaglomerular apparatus (detect low blood press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retory system:  A - kidne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 - uret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 - blad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 - ureth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 model in classro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dney structure:  corte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dul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lv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phron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 - renal artery (to afferent arterio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 - glomerulus (to efferent arterio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 - Bowman’s capsu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 - proximal tubu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 - loop of Henle (descending loo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 - loop of Henle (ascending loo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 - peritubular capilla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- distal tubu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- collecting du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ucose, NaCl, H+ ions, amino acids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6B8AE-4E7C-4E5C-866D-F187FD583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59461-8C95-4657-AC5E-B213606C9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FF408-18B5-4F3B-B0F6-839BB9A43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83316-83C3-4AC8-BA9C-AAFAD0D88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6B1F0-C09A-4BA8-A967-7255C2D67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7E3A0-635E-42B8-90FE-015129057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39A93-12E2-4107-94FC-92852FA6E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03C28-8BA2-4B7A-B8EF-555E22BA5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7B4E8-3AB0-4701-87EC-129892088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78FCD-530A-4171-84D9-272122529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83AEB-9429-4A78-A0DE-0C837A783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05F18-6C0F-4CBD-A281-C849C4EC6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91F93-8738-4258-8586-9109D872D7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kidneypatientguide.org.uk/site/HKWanim.php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biologymad.com/resources/kidney.swf" TargetMode="External"/><Relationship Id="rId2" Type="http://schemas.openxmlformats.org/officeDocument/2006/relationships/hyperlink" Target="http://davisplus.fadavis.com/scanlon6e/Animations/animations.cfm?exercise=NephronFiltration&amp;title=Nephron%20Filtration" TargetMode="External"/><Relationship Id="rId3" Type="http://schemas.openxmlformats.org/officeDocument/2006/relationships/hyperlink" Target="http://bcs.whfreeman.com/thelifewire/content/chp51/51020.html" TargetMode="External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quizlet.com/1644286/homeostasis-terms-flash-cards/" TargetMode="External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mation of Urine &amp; Water Bal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.5, 7.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absor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19mL of every 120mL of glomerular filtrate is reabsorbed (phew!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 main substances reabsorbe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ter (passiv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glucose (activ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activ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so amino acids (active), Cl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H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charge attraction)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re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itrogen-containing wastes (such as N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 urea, uric acid), 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ons, and K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ons are secreted in the distal tubu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ple animation on urine formation with no narra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kidneypatientguide.org.uk/site/HKWanim.ph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interactive animation has a nice feature where you can track the movement of various substanc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biologymad.com/resources/kidney.sw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ated animation on urine form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davisplus.fadavis.com/scanlon6e/Animations/animations.cfm?exercise=NephronFiltration&amp;title=Nephron%20Fil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ated animation of structure &amp; function;  quite detaile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bcs.whfreeman.com/thelifewire/content/chp51/51020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7.6 - Water Bal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ter Balance</a:t>
            </a:r>
            <a:br>
              <a:rPr sz="4400"/>
            </a:b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(Image on next slide from: http://knight.noble-hs.sad60.k12.me.us/content/exploringLife/text/chapter32/concept32.2.html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ter balance (i.e. amount of water in the blood) is regulated by the hypothalam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smoreceptor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etect changes in blood solute concent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of ADH (anti-diuretic hormone) increases water reabsorp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2244600" y="609480"/>
            <a:ext cx="46530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ood Pressure Reg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ood pressure receptors in the juxtaglomerular apparatus releas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ni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which activates angiotensino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giotensi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auses the adrenal glands to release aldoster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ldosteron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a hormone that acts on nephrons to increase N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reabsorption in the distal tubule and collecting du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7924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Image from: http://www.colorado.edu/intphys/Class/IPHY3430-200/017kidneys.ht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1914480" y="1219320"/>
            <a:ext cx="531504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 bal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llular respiration produces 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s a waste produ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issolved in the blood becomes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carbonic aci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rbonic acid dissociates into 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cidic) and H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basi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 bal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685800" y="3765600"/>
            <a:ext cx="777240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, some review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550960" y="1981080"/>
            <a:ext cx="40402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 bal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itubular capillaries actively transport 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the tub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es 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H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ons diffuse back into bl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ons combine with phosphate ions or ammonia and are removed by the kidne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ages in Slides #3,4,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cretory system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faculty.ccri.edu/kamontgomery/anatomy%20lab_13%20urogenital.ht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idne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www.dorenarode.com/anatomy/openlab.ht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phron (colour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movies-ciarancolegage.blogspot.com/2011/03/kidney-diagram-labeled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phron (unlabelled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kenpitts.net/hbio/46skel_musc_integ_systems/ch46_sched_08.ht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612880" y="609480"/>
            <a:ext cx="39182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i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114720" y="1981080"/>
            <a:ext cx="29131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886120" y="609480"/>
            <a:ext cx="33703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izlet.c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ember this websit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quizlet.com/1644286/homeostasis-terms-flash-cards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set of Homeostasis flashca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is urine forme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514600" y="1981080"/>
            <a:ext cx="41148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rine Formation</a:t>
            </a:r>
            <a:br>
              <a:rPr sz="4400"/>
            </a:b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(Image on previous slide from:  http://www.mountainside-medical.com/products/Urine-Specimen-Cup,-Sterile.html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lt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bsorp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re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lt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lomerulus high pressure: 65mm H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aller dissolved molecules can move through the walls of the glomerul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00mL of blood flows through the kidneys each minute;  120mL is filte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30T01:17:53Z</dcterms:created>
  <dc:creator>rubina khan</dc:creator>
  <dc:description/>
  <dc:language>en-US</dc:language>
  <cp:lastModifiedBy>rubina khan</cp:lastModifiedBy>
  <dcterms:modified xsi:type="dcterms:W3CDTF">2011-12-08T10:15:52Z</dcterms:modified>
  <cp:revision>129</cp:revision>
  <dc:subject/>
  <dc:title>Formation of Urine</dc:title>
</cp:coreProperties>
</file>